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6475D-B9DF-49B8-959C-92FEADE24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B2EC6-1BAF-4528-A049-BCECFCD60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FC28C-A097-4AA8-A070-2FB64AE90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BD61D-93CE-4DC4-9306-C965B673B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5880D-8ADF-47A0-8DA3-853882A5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D7B46-4AB4-4851-8333-2999F2D56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5AFA6-DEFB-46BF-B05F-5CFB9F3C7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4BEC9-5B4D-441D-A850-6DDB00C9E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44751-AD4E-4486-83C4-0B2C75DAA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0E6B2-932A-42EB-9178-B735A5CB1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5AFFB-143E-47F1-92CF-60D41E99A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A6B20-DD57-4948-8C8C-A3F9F6F38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30C3-E2F6-4086-AC91-EEB6725EBDE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468360" y="549360"/>
            <a:ext cx="8207280" cy="40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Discursive Writ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Persuasiv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ersuasive writing will persuade to a purpose or point of view (for example, to sell a product, or influence opinion/belief), usually concerning itself with a single topic or issu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rgumentativ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rgumentative writing will treat a topic or issue in a way which presents a line of argument, dealing with two or more varying viewpoint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395280" y="620640"/>
            <a:ext cx="828036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Persuasive</a:t>
            </a:r>
            <a:r>
              <a:rPr b="0" i="1" lang="en-GB"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main requirements of the </a:t>
            </a:r>
            <a:r>
              <a:rPr b="1" lang="en-GB" sz="2000" spc="-1" strike="noStrike">
                <a:solidFill>
                  <a:srgbClr val="ff0000"/>
                </a:solidFill>
                <a:latin typeface="Comic Sans MS"/>
              </a:rPr>
              <a:t>persuasive essay are that it will</a:t>
            </a:r>
            <a:r>
              <a:rPr b="1" lang="en-GB"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0" lang="en-GB" sz="2000" spc="-1" strike="noStrike">
                <a:solidFill>
                  <a:srgbClr val="000000"/>
                </a:solidFill>
                <a:latin typeface="Comic Sans MS"/>
              </a:rPr>
              <a:t>carry a sense of conviction, commitment or belief b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deliberate use of ton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make use of persuasive techniques, such as manipulating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formation, claiming necessity/exclusivity, flattering,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employing technical jargon/rhetoric.</a:t>
            </a:r>
            <a:r>
              <a:rPr b="0" lang="en-GB"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395280" y="320760"/>
            <a:ext cx="8353440" cy="53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Argumentative</a:t>
            </a:r>
            <a:r>
              <a:rPr b="0" i="1" lang="en-GB" sz="2400" spc="-1" strike="noStrike">
                <a:solidFill>
                  <a:srgbClr val="000000"/>
                </a:solidFill>
                <a:latin typeface="Comic Sans MS"/>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main requirements of the </a:t>
            </a:r>
            <a:r>
              <a:rPr b="1" lang="en-GB" sz="2000" spc="-1" strike="noStrike">
                <a:solidFill>
                  <a:srgbClr val="ff0000"/>
                </a:solidFill>
                <a:latin typeface="Comic Sans MS"/>
              </a:rPr>
              <a:t>argumentative essay are that it will</a:t>
            </a:r>
            <a:r>
              <a:rPr b="1" lang="en-GB"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communicate a clear line of argumen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present two sides of an argument (or more, if applicabl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convey an argumentative tone which is measured, reasonabl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nd yet carries personal convict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communicate to the reader a sense that the writer has a clea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line of thought which leads to a reasonable conclus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make use of a number of argumentative techniques such 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comparison, contrast, proof, disproof.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324000" y="255960"/>
            <a:ext cx="8424720" cy="5672880"/>
          </a:xfrm>
          <a:prstGeom prst="rect">
            <a:avLst/>
          </a:prstGeom>
          <a:noFill/>
          <a:ln w="0">
            <a:noFill/>
          </a:ln>
        </p:spPr>
        <p:style>
          <a:lnRef idx="0"/>
          <a:fillRef idx="0"/>
          <a:effectRef idx="0"/>
          <a:fontRef idx="minor"/>
        </p:style>
        <p:txBody>
          <a:bodyPr lIns="90000" rIns="90000" tIns="4680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ea typeface="Arial"/>
              </a:rPr>
              <a:t>Discursive Writing</a:t>
            </a:r>
            <a:r>
              <a:rPr b="1" lang="en-GB" sz="2400" spc="-1" strike="noStrike">
                <a:solidFill>
                  <a:srgbClr val="000000"/>
                </a:solidFill>
                <a:latin typeface="Comic Sans MS"/>
                <a:ea typeface="Arial"/>
              </a:rPr>
              <a:t> – </a:t>
            </a:r>
            <a:r>
              <a:rPr b="1" lang="en-GB" sz="2400" spc="-1" strike="noStrike">
                <a:solidFill>
                  <a:srgbClr val="0000ff"/>
                </a:solidFill>
                <a:latin typeface="Comic Sans MS"/>
                <a:ea typeface="Arial"/>
              </a:rPr>
              <a:t>SQA Advic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Choose your topic carefully. It needs to be something which will allow you to construct a clear and sensible argument. The more you are genuinely interested in and engaged with the topic the better and more interesting your writing will b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Some research and background reading is advisable but don’t overdo it, because simply presenting a series of “facts” does not make for an effective piece of discursive writing. It’s </a:t>
            </a:r>
            <a:r>
              <a:rPr b="0" i="1" lang="en-GB" sz="2000" spc="-1" strike="noStrike">
                <a:solidFill>
                  <a:srgbClr val="000000"/>
                </a:solidFill>
                <a:latin typeface="Comic Sans MS"/>
                <a:ea typeface="Times New Roman"/>
              </a:rPr>
              <a:t>your</a:t>
            </a:r>
            <a:r>
              <a:rPr b="0" lang="en-GB" sz="2000" spc="-1" strike="noStrike">
                <a:solidFill>
                  <a:srgbClr val="000000"/>
                </a:solidFill>
                <a:latin typeface="Comic Sans MS"/>
                <a:ea typeface="Times New Roman"/>
              </a:rPr>
              <a:t> ideas the marker wants to read, not others peopl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Remember to keep a careful record of the sources you consul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Try to use some of the techniques which you see (and answer questions on) in Close Reading passages, for example link sentences, clear paragraphing, effective word choice and sentence structures, et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8:48:00Z</dcterms:created>
  <dc:creator>Ellie Griffiths</dc:creator>
  <dc:description/>
  <dc:language>en-US</dc:language>
  <cp:lastModifiedBy>Ellie Griffiths</cp:lastModifiedBy>
  <dcterms:modified xsi:type="dcterms:W3CDTF">2011-08-29T20:21:41Z</dcterms:modified>
  <cp:revision>2</cp:revision>
  <dc:subject/>
  <dc:title>Slide 1</dc:title>
</cp:coreProperties>
</file>